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165-3838-448B-9A51-B080B2D9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4A7-8F5F-4E19-84BA-F5F24B5B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4E5-286B-4DB9-A8B5-0663DA00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CC7-61BA-4DAB-A544-7D3F86BE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7BF-18B3-431D-94F5-E7B91AA6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D31-0EB0-4E4E-A218-D9427CB3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1B4-85C9-4A51-9BA0-2FBB46C0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1A3-2857-478A-BEFF-D2636515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E44-ACE3-42CB-98E6-56CBB37D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2DA-7FB3-46E8-9FDE-523AE42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160-55CA-432A-8748-8C99D266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175-729C-42D4-B935-7C4794A7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D8D7-F984-4A0B-B182-66DAA6309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3 Pane, z tvojho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z tvojho požehna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lynú prúdy radosti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nás tvoje ruky chrá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pokušení, v úzk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ej dobe napriek mdlo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aj vo viere stálosti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prijmi chválu, vďačn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ilosť, dar spasenia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nám tvoja stála vern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áskou srdcia napĺň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eď nás k cieľu, Spasit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hoden chváleni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53:52Z</dcterms:modified>
  <cp:revision>22</cp:revision>
  <dc:subject/>
  <dc:title>Je veľký náš Pán, on slávy je Kráľ Nech do všetkých strán  spev vrúcnych znie chvál.</dc:title>
</cp:coreProperties>
</file>